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218D-DB5E-4CB5-9E9D-DDF036492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29D5-161C-4CEE-97CA-A6941827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ED60-20BD-402A-B8A5-EAE387F67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8C6D-1C26-4C2A-94E4-0EBAD352F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8ACE3-1DB5-4C55-A721-9C062BF64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8894-CEA2-478F-9D35-3E1D7C07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0325-4256-4D9C-8EAE-6325B608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BBD0-7D56-41CA-9292-2FC713B5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5539-D81D-40A3-8272-521E82E2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0DCE-AF4E-4E9C-A955-CADD7D52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EF27A-5ED9-4784-AA02-DD4E5A5E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244E-A897-4E2A-A618-83B2E4DC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2461-2729-43F4-B486-D520FF0B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A5BD-775C-4A76-AEB6-33BBC55A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A5EF-B8FB-4415-8CFA-F9CD6AD5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F6B0-D6EE-4F5F-8934-D0BF2C277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3910-F1A7-4FA2-B035-51BC3F49B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AE3D4-D5E4-451A-AC30-0F399DA19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99D17-411C-4B54-8278-6C7188C2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1D7C1-34CD-4E88-9CE0-5862FEB7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D7700-4361-4A24-AC67-DD0BE63A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F3152-7443-4AD0-846A-03C6205D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E039-A9AF-4141-9ED1-57B397FF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70172-7181-46BF-8140-27CFC70D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DF2CA-0565-4CD2-A41B-168FCA64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E6894-2345-4C32-A2DE-AC1943B2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0218F-62FA-49F7-9EBB-ED762366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6A43E-4704-4999-9D24-3DABA4FC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6B1B1-DED1-47E4-9959-8F22BF9D2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8B503-C87B-4E45-9C3B-D12B53872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FECB9-7B6A-430A-859E-96D90EFE0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4473D-CB09-45F8-9FC7-1D86DD16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FF319-A2A0-4EE3-81BE-8B3156F5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8F35-6459-441F-9FC4-983B4C8D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F8362-CB63-40D1-9B9B-0367C853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CF8BE-B330-4CC3-A7FB-32DF4667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9CA4B-A399-4DAC-9049-D0F22D5F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F3FE8-7F2A-4A68-9B4F-741BB9D7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F6D27-7F9E-434F-81F1-4D950F5E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6F50F-1A5F-4FA6-A8EB-40F1863F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98707-A728-4BA8-A620-11EA0B13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30B11-0202-4DBD-B00E-340C54A7C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354C8-0D35-4E06-BFD5-F24401CE8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DE6F2-523F-47EB-9398-6331C5A90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2A65-FB61-4E8E-98EA-21887361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99417-6771-4152-ADB3-50D1EC30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CAD58-53C4-45CD-9C7C-52DC0953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8A6A7-FFC6-488D-8FBA-C9ABB0E8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BD884-BC4D-4CBE-A6C9-AAE75208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C5E50-C583-4DD9-B7C1-29C732AB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19938-3DB4-40AC-8038-FFDEC5C0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7D70D-EA42-4F0A-9F38-9B906CC0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30C73-7DE6-4525-85DF-66AF300D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1C0F0-FD87-4516-828F-07445A99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2B37B-6E92-4153-8659-13B78DBC3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5488-80CC-4F62-8088-3CF4F86A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85DF9-3FE9-4B53-A85E-10ACAFCFF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D3C1C-58D3-4727-A34A-B53B9F078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BF63A-387B-45DA-906B-55471367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041F7-F67F-441B-913F-87AB87E4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92F77-7F8E-434A-B2E1-373E7DA2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7705E-C4B0-4182-B985-797BF2A9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04E25-5874-4DA1-ABF4-98636A5E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523AF-97DE-4104-845B-DA5F9221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60570-73F6-43D5-AD8B-65AAA7B8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545DA-6B44-493F-BA8B-2132382F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A35C-9DE4-4240-98AB-D5F30FCB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F41EA-60C8-4D4C-BB52-39E29929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56FC8-4DDE-4531-9E48-39F68EFFC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A5942-EA58-493F-A734-37ADFB444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5DD7-A2F2-40CE-9E74-51F7D1AA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9435-429D-416D-8587-86414AE5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84c22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84c22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84c22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84c22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84c22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983C-96F2-4B09-944E-C0033BC8A1B5}" type="slidenum">
              <a:rPr b="0" lang="es-PE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e84c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b535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Freeform 9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b535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84c22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84c22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84c22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84c22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84c22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496F-1E74-4FC2-BDCE-7FC4AF74DAD1}" type="slidenum">
              <a:rPr b="0" lang="es-PE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8837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b535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84c22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84c22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84c22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84c22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84c22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DBD0-239C-46AB-8E08-E80C06E4E912}" type="slidenum">
              <a:rPr b="0" lang="es-PE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84c22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84c22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84c22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84c22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84c22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073C-D3DB-45BD-BB32-009F50F82C46}" type="slidenum">
              <a:rPr b="0" lang="es-PE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e84c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84c22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84c22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84c22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84c22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84c22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E3D3-9867-4841-B670-4E682F908C9A}" type="slidenum">
              <a:rPr b="0" lang="es-PE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6"/>
          <p:cNvSpPr/>
          <p:nvPr/>
        </p:nvSpPr>
        <p:spPr>
          <a:xfrm>
            <a:off x="7201080" y="515880"/>
            <a:ext cx="685800" cy="0"/>
          </a:xfrm>
          <a:prstGeom prst="line">
            <a:avLst/>
          </a:prstGeom>
          <a:ln w="19080">
            <a:solidFill>
              <a:srgbClr val="e84c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84c22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84c22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84c22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84c22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84c22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1E16-22AF-4124-AC73-548B0EE43C52}" type="slidenum">
              <a:rPr b="0" lang="es-PE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apps3.mineco.gob.pe/appCont/index.jsp" TargetMode="External"/><Relationship Id="rId3" Type="http://schemas.openxmlformats.org/officeDocument/2006/relationships/hyperlink" Target="http://apps3.mineco.gob.pe/appCont/index.jsp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apps2.mef.gob.pe/apptransferencias/index.jsp" TargetMode="External"/><Relationship Id="rId2" Type="http://schemas.openxmlformats.org/officeDocument/2006/relationships/hyperlink" Target="http://apps2.mef.gob.pe/apptransferencias/index.jsp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5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0" y="37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Rectangle 27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Rectangle 28"/>
          <p:cNvSpPr/>
          <p:nvPr/>
        </p:nvSpPr>
        <p:spPr>
          <a:xfrm>
            <a:off x="0" y="37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Rectangle 25"/>
          <p:cNvSpPr/>
          <p:nvPr/>
        </p:nvSpPr>
        <p:spPr>
          <a:xfrm>
            <a:off x="5092560" y="6000840"/>
            <a:ext cx="36226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60" name="12 Imagen" descr="FONDO_MOD_2-01.tif"/>
          <p:cNvPicPr/>
          <p:nvPr/>
        </p:nvPicPr>
        <p:blipFill>
          <a:blip r:embed="rId1"/>
          <a:stretch/>
        </p:blipFill>
        <p:spPr>
          <a:xfrm>
            <a:off x="-12600" y="-19080"/>
            <a:ext cx="9175680" cy="688968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25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2" name="Rectangle 26"/>
          <p:cNvSpPr/>
          <p:nvPr/>
        </p:nvSpPr>
        <p:spPr>
          <a:xfrm>
            <a:off x="0" y="37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Rectangle 27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4" name="Rectangle 28"/>
          <p:cNvSpPr/>
          <p:nvPr/>
        </p:nvSpPr>
        <p:spPr>
          <a:xfrm>
            <a:off x="0" y="37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5" name="Rectangle 25"/>
          <p:cNvSpPr/>
          <p:nvPr/>
        </p:nvSpPr>
        <p:spPr>
          <a:xfrm>
            <a:off x="5092560" y="6000840"/>
            <a:ext cx="36226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CuadroTexto 1"/>
          <p:cNvSpPr/>
          <p:nvPr/>
        </p:nvSpPr>
        <p:spPr>
          <a:xfrm>
            <a:off x="3436920" y="5192640"/>
            <a:ext cx="4330440" cy="82476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ffe6d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0000"/>
                </a:solidFill>
                <a:latin typeface="Arial Black"/>
              </a:rPr>
              <a:t>CPC. ISABEL CANORIO SALCEDO </a:t>
            </a:r>
            <a:endParaRPr b="1" i="1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0000"/>
                </a:solidFill>
                <a:latin typeface="Arial Black"/>
              </a:rPr>
              <a:t>DIRECCIÓN GENERAL DE CONTABILIDAD PÚBLICA </a:t>
            </a:r>
            <a:endParaRPr b="1" i="1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67" name="CuadroTexto 2" descr=""/>
          <p:cNvPicPr/>
          <p:nvPr/>
        </p:nvPicPr>
        <p:blipFill>
          <a:blip r:embed="rId2"/>
          <a:stretch/>
        </p:blipFill>
        <p:spPr>
          <a:xfrm>
            <a:off x="2487600" y="2693880"/>
            <a:ext cx="6504120" cy="1060560"/>
          </a:xfrm>
          <a:prstGeom prst="rect">
            <a:avLst/>
          </a:prstGeom>
          <a:ln w="0">
            <a:noFill/>
          </a:ln>
        </p:spPr>
      </p:pic>
      <p:sp>
        <p:nvSpPr>
          <p:cNvPr id="268" name="CuadroTexto 3"/>
          <p:cNvSpPr/>
          <p:nvPr/>
        </p:nvSpPr>
        <p:spPr>
          <a:xfrm>
            <a:off x="4297320" y="3554280"/>
            <a:ext cx="3238560" cy="4291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f194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0000"/>
                </a:solidFill>
                <a:latin typeface="Arial Black"/>
              </a:rPr>
              <a:t>EJERCICIO 2015</a:t>
            </a:r>
            <a:endParaRPr b="1" i="1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9" name="CuadroTexto 1"/>
          <p:cNvSpPr/>
          <p:nvPr/>
        </p:nvSpPr>
        <p:spPr>
          <a:xfrm>
            <a:off x="3635280" y="6093000"/>
            <a:ext cx="41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00"/>
                </a:solidFill>
                <a:latin typeface="Arial Black"/>
              </a:rPr>
              <a:t>Jr. Lampa N° 277 – Lima Cercado </a:t>
            </a:r>
            <a:endParaRPr b="1" i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Imagen 1" descr=""/>
          <p:cNvPicPr/>
          <p:nvPr/>
        </p:nvPicPr>
        <p:blipFill>
          <a:blip r:embed="rId1"/>
          <a:stretch/>
        </p:blipFill>
        <p:spPr>
          <a:xfrm>
            <a:off x="0" y="371520"/>
            <a:ext cx="9144000" cy="6222960"/>
          </a:xfrm>
          <a:prstGeom prst="rect">
            <a:avLst/>
          </a:prstGeom>
          <a:ln w="0">
            <a:noFill/>
          </a:ln>
        </p:spPr>
      </p:pic>
      <p:sp>
        <p:nvSpPr>
          <p:cNvPr id="351" name="Llamada rectangular 2"/>
          <p:cNvSpPr/>
          <p:nvPr/>
        </p:nvSpPr>
        <p:spPr>
          <a:xfrm>
            <a:off x="5292720" y="6165720"/>
            <a:ext cx="1225440" cy="500040"/>
          </a:xfrm>
          <a:prstGeom prst="wedgeRectCallout">
            <a:avLst>
              <a:gd name="adj1" fmla="val -59486"/>
              <a:gd name="adj2" fmla="val -108587"/>
            </a:avLst>
          </a:prstGeom>
          <a:solidFill>
            <a:srgbClr val="e84c22"/>
          </a:solidFill>
          <a:ln w="55080">
            <a:solidFill>
              <a:srgbClr val="c35b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ffff"/>
                </a:solidFill>
                <a:latin typeface="Calibri"/>
              </a:rPr>
              <a:t>&lt; o =      al  PP-1</a:t>
            </a:r>
            <a:endParaRPr b="1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2" name="Llamada rectangular 3"/>
          <p:cNvSpPr/>
          <p:nvPr/>
        </p:nvSpPr>
        <p:spPr>
          <a:xfrm>
            <a:off x="8101080" y="6184800"/>
            <a:ext cx="1224000" cy="500040"/>
          </a:xfrm>
          <a:prstGeom prst="wedgeRectCallout">
            <a:avLst>
              <a:gd name="adj1" fmla="val -41699"/>
              <a:gd name="adj2" fmla="val -110768"/>
            </a:avLst>
          </a:prstGeom>
          <a:solidFill>
            <a:srgbClr val="e84c22"/>
          </a:solidFill>
          <a:ln w="55080">
            <a:solidFill>
              <a:srgbClr val="c35b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ffff"/>
                </a:solidFill>
                <a:latin typeface="Calibri"/>
              </a:rPr>
              <a:t>&lt; o =      al   EP-1</a:t>
            </a:r>
            <a:endParaRPr b="1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Imagen 4" descr=""/>
          <p:cNvPicPr/>
          <p:nvPr/>
        </p:nvPicPr>
        <p:blipFill>
          <a:blip r:embed="rId1"/>
          <a:stretch/>
        </p:blipFill>
        <p:spPr>
          <a:xfrm>
            <a:off x="0" y="263520"/>
            <a:ext cx="9144000" cy="6330960"/>
          </a:xfrm>
          <a:prstGeom prst="rect">
            <a:avLst/>
          </a:prstGeom>
          <a:ln w="0">
            <a:noFill/>
          </a:ln>
        </p:spPr>
      </p:pic>
      <p:sp>
        <p:nvSpPr>
          <p:cNvPr id="354" name="Llamada rectangular 2"/>
          <p:cNvSpPr/>
          <p:nvPr/>
        </p:nvSpPr>
        <p:spPr>
          <a:xfrm>
            <a:off x="2484360" y="6237360"/>
            <a:ext cx="1224000" cy="500040"/>
          </a:xfrm>
          <a:prstGeom prst="wedgeRectCallout">
            <a:avLst>
              <a:gd name="adj1" fmla="val 33398"/>
              <a:gd name="adj2" fmla="val -109597"/>
            </a:avLst>
          </a:prstGeom>
          <a:solidFill>
            <a:srgbClr val="e84c22"/>
          </a:solidFill>
          <a:ln w="55080">
            <a:solidFill>
              <a:srgbClr val="c35b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ffff"/>
                </a:solidFill>
                <a:latin typeface="Calibri"/>
              </a:rPr>
              <a:t>&lt; o =      al  PP-2</a:t>
            </a:r>
            <a:endParaRPr b="1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5" name="Llamada rectangular 3"/>
          <p:cNvSpPr/>
          <p:nvPr/>
        </p:nvSpPr>
        <p:spPr>
          <a:xfrm>
            <a:off x="6661080" y="6129360"/>
            <a:ext cx="1224000" cy="500040"/>
          </a:xfrm>
          <a:prstGeom prst="wedgeRectCallout">
            <a:avLst>
              <a:gd name="adj1" fmla="val 71236"/>
              <a:gd name="adj2" fmla="val -102273"/>
            </a:avLst>
          </a:prstGeom>
          <a:solidFill>
            <a:srgbClr val="e84c22"/>
          </a:solidFill>
          <a:ln w="55080">
            <a:solidFill>
              <a:srgbClr val="c35b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ffff"/>
                </a:solidFill>
                <a:latin typeface="Calibri"/>
              </a:rPr>
              <a:t>&lt; o =      al  EP-1</a:t>
            </a:r>
            <a:endParaRPr b="1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Imagen 3" descr=""/>
          <p:cNvPicPr/>
          <p:nvPr/>
        </p:nvPicPr>
        <p:blipFill>
          <a:blip r:embed="rId1"/>
          <a:stretch/>
        </p:blipFill>
        <p:spPr>
          <a:xfrm>
            <a:off x="1380960" y="371520"/>
            <a:ext cx="6315120" cy="62229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Imagen 3" descr=""/>
          <p:cNvPicPr/>
          <p:nvPr/>
        </p:nvPicPr>
        <p:blipFill>
          <a:blip r:embed="rId1"/>
          <a:stretch/>
        </p:blipFill>
        <p:spPr>
          <a:xfrm>
            <a:off x="1846440" y="371520"/>
            <a:ext cx="5916600" cy="62229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8c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AutoShape 21"/>
          <p:cNvSpPr/>
          <p:nvPr/>
        </p:nvSpPr>
        <p:spPr>
          <a:xfrm>
            <a:off x="552600" y="1973880"/>
            <a:ext cx="3357360" cy="711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ahoma"/>
              </a:rPr>
              <a:t>M. TRABAJO  Y PROMOCIÓN DEL EMPLEO  </a:t>
            </a:r>
            <a:endParaRPr b="1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1" name="AutoShape 22"/>
          <p:cNvSpPr/>
          <p:nvPr/>
        </p:nvSpPr>
        <p:spPr>
          <a:xfrm>
            <a:off x="5222880" y="2134440"/>
            <a:ext cx="335772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ahoma"/>
              </a:rPr>
              <a:t>M. DISTRITAL DE MORO  </a:t>
            </a:r>
            <a:endParaRPr b="1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2" name="Text Box 10"/>
          <p:cNvSpPr/>
          <p:nvPr/>
        </p:nvSpPr>
        <p:spPr>
          <a:xfrm>
            <a:off x="2484360" y="3763800"/>
            <a:ext cx="2071800" cy="654480"/>
          </a:xfrm>
          <a:prstGeom prst="rect">
            <a:avLst/>
          </a:prstGeom>
          <a:gradFill rotWithShape="0">
            <a:gsLst>
              <a:gs pos="0">
                <a:srgbClr val="fcf5f3"/>
              </a:gs>
              <a:gs pos="100000">
                <a:srgbClr val="f0c5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 u="sng">
                <a:solidFill>
                  <a:srgbClr val="664d00"/>
                </a:solidFill>
                <a:uFillTx/>
                <a:latin typeface="Tahoma"/>
              </a:rPr>
              <a:t> </a:t>
            </a:r>
            <a:r>
              <a:rPr b="1" i="1" lang="es-MX" sz="1400" spc="-1" strike="noStrike" u="sng">
                <a:solidFill>
                  <a:srgbClr val="3366cc"/>
                </a:solidFill>
                <a:uFillTx/>
                <a:latin typeface="Tahoma"/>
              </a:rPr>
              <a:t>PPTO.</a:t>
            </a:r>
            <a:r>
              <a:rPr b="1" i="1" lang="es-MX" sz="1400" spc="-1" strike="noStrike">
                <a:solidFill>
                  <a:srgbClr val="3366cc"/>
                </a:solidFill>
                <a:latin typeface="Tahoma"/>
              </a:rPr>
              <a:t>    </a:t>
            </a:r>
            <a:r>
              <a:rPr b="1" i="1" lang="es-MX" sz="1400" spc="-1" strike="noStrike" u="sng">
                <a:solidFill>
                  <a:srgbClr val="3366cc"/>
                </a:solidFill>
                <a:uFillTx/>
                <a:latin typeface="Tahoma"/>
              </a:rPr>
              <a:t>EJECUCIÒN</a:t>
            </a:r>
            <a:endParaRPr b="1" i="1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500" spc="-1" strike="noStrike">
                <a:solidFill>
                  <a:srgbClr val="3366cc"/>
                </a:solidFill>
                <a:latin typeface="Tahoma"/>
              </a:rPr>
              <a:t>15 000        15 000 </a:t>
            </a:r>
            <a:endParaRPr b="1" i="1" lang="en-US" sz="1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4724280" y="3767040"/>
            <a:ext cx="2071800" cy="654480"/>
          </a:xfrm>
          <a:prstGeom prst="rect">
            <a:avLst/>
          </a:prstGeom>
          <a:gradFill rotWithShape="0">
            <a:gsLst>
              <a:gs pos="0">
                <a:srgbClr val="fcf5f3"/>
              </a:gs>
              <a:gs pos="100000">
                <a:srgbClr val="f0c5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 u="sng">
                <a:solidFill>
                  <a:srgbClr val="a36900"/>
                </a:solidFill>
                <a:uFillTx/>
                <a:latin typeface="Tahoma"/>
              </a:rPr>
              <a:t>PPTO</a:t>
            </a:r>
            <a:r>
              <a:rPr b="1" i="1" lang="es-MX" sz="1400" spc="-1" strike="noStrike">
                <a:solidFill>
                  <a:srgbClr val="a36900"/>
                </a:solidFill>
                <a:latin typeface="Tahoma"/>
              </a:rPr>
              <a:t>.     </a:t>
            </a:r>
            <a:r>
              <a:rPr b="1" i="1" lang="es-MX" sz="1400" spc="-1" strike="noStrike" u="sng">
                <a:solidFill>
                  <a:srgbClr val="a36900"/>
                </a:solidFill>
                <a:uFillTx/>
                <a:latin typeface="Tahoma"/>
              </a:rPr>
              <a:t>CAPTACIÓN</a:t>
            </a:r>
            <a:endParaRPr b="1" i="1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500" spc="-1" strike="noStrike">
                <a:solidFill>
                  <a:srgbClr val="a36900"/>
                </a:solidFill>
                <a:latin typeface="Tahoma"/>
              </a:rPr>
              <a:t>15 000       15 000</a:t>
            </a:r>
            <a:endParaRPr b="1" i="1" lang="en-US" sz="1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420840" y="29415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cc9900"/>
                </a:solidFill>
                <a:latin typeface="Tahoma"/>
              </a:rPr>
              <a:t>Ingresos</a:t>
            </a:r>
            <a:endParaRPr b="1" i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5038560" y="295272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cc9900"/>
                </a:solidFill>
                <a:latin typeface="Tahoma"/>
              </a:rPr>
              <a:t>Ingresos</a:t>
            </a:r>
            <a:endParaRPr b="1" i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2916360" y="293040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664d00"/>
                </a:solidFill>
                <a:latin typeface="Tahoma"/>
              </a:rPr>
              <a:t>Gastos</a:t>
            </a:r>
            <a:endParaRPr b="1" i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7432560" y="29401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591300"/>
                </a:solidFill>
                <a:latin typeface="Tahoma"/>
              </a:rPr>
              <a:t>Gastos</a:t>
            </a:r>
            <a:endParaRPr b="1" i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" name="Line 2"/>
          <p:cNvSpPr/>
          <p:nvPr/>
        </p:nvSpPr>
        <p:spPr>
          <a:xfrm flipV="1">
            <a:off x="4653000" y="3365640"/>
            <a:ext cx="4440240" cy="25200"/>
          </a:xfrm>
          <a:prstGeom prst="line">
            <a:avLst/>
          </a:prstGeom>
          <a:ln w="12600">
            <a:solidFill>
              <a:srgbClr val="3e3e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9" name="7 Rectángulo"/>
          <p:cNvSpPr/>
          <p:nvPr/>
        </p:nvSpPr>
        <p:spPr>
          <a:xfrm flipV="1" rot="10800000">
            <a:off x="2308320" y="5126400"/>
            <a:ext cx="409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Timbrel"/>
              </a:rPr>
              <a:t>       </a:t>
            </a:r>
            <a:r>
              <a:rPr b="1" i="1" lang="es-MX" sz="2200" spc="-1" strike="noStrike">
                <a:solidFill>
                  <a:srgbClr val="000000"/>
                </a:solidFill>
                <a:latin typeface="Timbrel"/>
              </a:rPr>
              <a:t>TRANSFERENCIAS</a:t>
            </a:r>
            <a:r>
              <a:rPr b="1" i="1" lang="es-MX" sz="2400" spc="-1" strike="noStrike">
                <a:solidFill>
                  <a:srgbClr val="000000"/>
                </a:solidFill>
                <a:latin typeface="Timbrel"/>
              </a:rPr>
              <a:t> INTRASISTEMAS (</a:t>
            </a:r>
            <a:r>
              <a:rPr b="1" i="1" lang="es-MX" sz="2200" spc="-1" strike="noStrike">
                <a:solidFill>
                  <a:srgbClr val="000000"/>
                </a:solidFill>
                <a:latin typeface="Timbrel"/>
              </a:rPr>
              <a:t>ELIMINACIONES</a:t>
            </a:r>
            <a:r>
              <a:rPr b="1" i="1" lang="es-MX" sz="2400" spc="-1" strike="noStrike">
                <a:solidFill>
                  <a:srgbClr val="000000"/>
                </a:solidFill>
                <a:latin typeface="Timbrel"/>
              </a:rPr>
              <a:t>)</a:t>
            </a: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80" name="9 Rectángulo"/>
          <p:cNvGrpSpPr/>
          <p:nvPr/>
        </p:nvGrpSpPr>
        <p:grpSpPr>
          <a:xfrm>
            <a:off x="1981080" y="5913360"/>
            <a:ext cx="5596200" cy="1096920"/>
            <a:chOff x="1981080" y="5913360"/>
            <a:chExt cx="5596200" cy="1096920"/>
          </a:xfrm>
        </p:grpSpPr>
        <p:pic>
          <p:nvPicPr>
            <p:cNvPr id="281" name="9 Rectángulo" descr=""/>
            <p:cNvPicPr/>
            <p:nvPr/>
          </p:nvPicPr>
          <p:blipFill>
            <a:blip r:embed="rId1"/>
            <a:stretch/>
          </p:blipFill>
          <p:spPr>
            <a:xfrm>
              <a:off x="1981080" y="5913360"/>
              <a:ext cx="55962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2050920" y="5950080"/>
              <a:ext cx="5354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800" spc="-1" strike="noStrike">
                  <a:solidFill>
                    <a:srgbClr val="ffffff"/>
                  </a:solidFill>
                  <a:latin typeface="Timbrel"/>
                </a:rPr>
                <a:t>   </a:t>
              </a:r>
              <a:r>
                <a:rPr b="1" i="1" lang="es-MX" sz="2000" spc="-1" strike="noStrike">
                  <a:solidFill>
                    <a:srgbClr val="ffffff"/>
                  </a:solidFill>
                  <a:latin typeface="Timbrel"/>
                </a:rPr>
                <a:t>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Timbrel"/>
                </a:rPr>
                <a:t>ESTADOS  PRESUPUESTARIOS DE LA CUENTA GENERAL DE LA REPÚBLICA </a:t>
              </a:r>
              <a:endParaRPr b="1" i="1" lang="en-US" sz="2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283" name="23 Conector recto"/>
          <p:cNvSpPr/>
          <p:nvPr/>
        </p:nvSpPr>
        <p:spPr>
          <a:xfrm>
            <a:off x="4651200" y="2781360"/>
            <a:ext cx="1800" cy="1871640"/>
          </a:xfrm>
          <a:prstGeom prst="line">
            <a:avLst/>
          </a:prstGeom>
          <a:ln w="55080">
            <a:solidFill>
              <a:srgbClr val="ff61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20640" y="1214280"/>
          <a:ext cx="8109000" cy="579600"/>
        </p:xfrm>
        <a:graphic>
          <a:graphicData uri="http://schemas.openxmlformats.org/drawingml/2006/table">
            <a:tbl>
              <a:tblPr/>
              <a:tblGrid>
                <a:gridCol w="8109000"/>
              </a:tblGrid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FERENCIAS FINANCIERAS DEL MINISTERIO DE TRABAJO  A LA MUNICIPALIDAD DISTRITAL DE MORO   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84c22"/>
                    </a:solidFill>
                  </a:tcPr>
                </a:tc>
              </a:tr>
            </a:tbl>
          </a:graphicData>
        </a:graphic>
      </p:graphicFrame>
      <p:sp>
        <p:nvSpPr>
          <p:cNvPr id="285" name="Line 2"/>
          <p:cNvSpPr/>
          <p:nvPr/>
        </p:nvSpPr>
        <p:spPr>
          <a:xfrm>
            <a:off x="227160" y="3314880"/>
            <a:ext cx="4360680" cy="75960"/>
          </a:xfrm>
          <a:prstGeom prst="line">
            <a:avLst/>
          </a:prstGeom>
          <a:ln w="12600">
            <a:solidFill>
              <a:srgbClr val="3e3e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6" name="Rectángulo 5"/>
          <p:cNvSpPr/>
          <p:nvPr/>
        </p:nvSpPr>
        <p:spPr>
          <a:xfrm>
            <a:off x="6900840" y="3618000"/>
            <a:ext cx="214488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i="1" lang="es-MX" sz="1400" spc="-1" strike="noStrike" u="sng">
                <a:solidFill>
                  <a:srgbClr val="3366cc"/>
                </a:solidFill>
                <a:uFillTx/>
                <a:latin typeface="Tahoma"/>
              </a:rPr>
              <a:t>PPTO.</a:t>
            </a:r>
            <a:r>
              <a:rPr b="1" i="1" lang="es-MX" sz="1400" spc="-1" strike="noStrike">
                <a:solidFill>
                  <a:srgbClr val="3366cc"/>
                </a:solidFill>
                <a:latin typeface="Tahoma"/>
              </a:rPr>
              <a:t>    </a:t>
            </a:r>
            <a:r>
              <a:rPr b="1" i="1" lang="es-MX" sz="1400" spc="-1" strike="noStrike" u="sng">
                <a:solidFill>
                  <a:srgbClr val="3366cc"/>
                </a:solidFill>
                <a:uFillTx/>
                <a:latin typeface="Tahoma"/>
              </a:rPr>
              <a:t>EJECUCIÓN</a:t>
            </a:r>
            <a:endParaRPr b="1" i="1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3366cc"/>
                </a:solidFill>
                <a:latin typeface="Tahoma"/>
              </a:rPr>
              <a:t>15 000           12 000 </a:t>
            </a:r>
            <a:endParaRPr b="1" i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7" name="Rectángulo 31"/>
          <p:cNvSpPr/>
          <p:nvPr/>
        </p:nvSpPr>
        <p:spPr>
          <a:xfrm>
            <a:off x="108000" y="3649680"/>
            <a:ext cx="214452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i="1" lang="es-MX" sz="1400" spc="-1" strike="noStrike" u="sng">
                <a:solidFill>
                  <a:srgbClr val="a36900"/>
                </a:solidFill>
                <a:uFillTx/>
                <a:latin typeface="Tahoma"/>
              </a:rPr>
              <a:t>PPTO.</a:t>
            </a:r>
            <a:r>
              <a:rPr b="1" i="1" lang="es-MX" sz="1400" spc="-1" strike="noStrike">
                <a:solidFill>
                  <a:srgbClr val="a36900"/>
                </a:solidFill>
                <a:latin typeface="Tahoma"/>
              </a:rPr>
              <a:t>    </a:t>
            </a:r>
            <a:r>
              <a:rPr b="1" i="1" lang="es-MX" sz="1400" spc="-1" strike="noStrike" u="sng">
                <a:solidFill>
                  <a:srgbClr val="a36900"/>
                </a:solidFill>
                <a:uFillTx/>
                <a:latin typeface="Tahoma"/>
              </a:rPr>
              <a:t>CAPTACIÓN</a:t>
            </a:r>
            <a:endParaRPr b="1" i="1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a36900"/>
                </a:solidFill>
                <a:latin typeface="Tahoma"/>
              </a:rPr>
              <a:t> </a:t>
            </a:r>
            <a:r>
              <a:rPr b="1" i="1" lang="es-MX" sz="1400" spc="-1" strike="noStrike">
                <a:solidFill>
                  <a:srgbClr val="a36900"/>
                </a:solidFill>
                <a:latin typeface="Tahoma"/>
              </a:rPr>
              <a:t>15 000       15 000 </a:t>
            </a:r>
            <a:endParaRPr b="1" i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8" name="Cerrar llave 10"/>
          <p:cNvSpPr/>
          <p:nvPr/>
        </p:nvSpPr>
        <p:spPr>
          <a:xfrm rot="5400000">
            <a:off x="4365720" y="3093840"/>
            <a:ext cx="622080" cy="3391200"/>
          </a:xfrm>
          <a:custGeom>
            <a:avLst/>
            <a:gdLst>
              <a:gd name="textAreaLeft" fmla="*/ 0 w 622080"/>
              <a:gd name="textAreaRight" fmla="*/ 224640 w 622080"/>
              <a:gd name="textAreaTop" fmla="*/ 16200 h 3391200"/>
              <a:gd name="textAreaBottom" fmla="*/ 3375000 h 339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5"/>
                  <a:pt x="10800" y="330"/>
                </a:cubicBezTo>
                <a:lnTo>
                  <a:pt x="10800" y="11362"/>
                </a:lnTo>
                <a:cubicBezTo>
                  <a:pt x="10800" y="11527"/>
                  <a:pt x="16200" y="11692"/>
                  <a:pt x="21600" y="11692"/>
                </a:cubicBezTo>
                <a:cubicBezTo>
                  <a:pt x="16200" y="11692"/>
                  <a:pt x="10800" y="11857"/>
                  <a:pt x="10800" y="12022"/>
                </a:cubicBezTo>
                <a:lnTo>
                  <a:pt x="10800" y="21270"/>
                </a:lnTo>
                <a:cubicBezTo>
                  <a:pt x="10800" y="21435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591300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Luna 18"/>
          <p:cNvSpPr/>
          <p:nvPr/>
        </p:nvSpPr>
        <p:spPr>
          <a:xfrm rot="16200000">
            <a:off x="7980120" y="3884040"/>
            <a:ext cx="71640" cy="1465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e84c22"/>
          </a:solidFill>
          <a:ln w="55080">
            <a:solidFill>
              <a:srgbClr val="c35b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0" name="Luna 39"/>
          <p:cNvSpPr/>
          <p:nvPr/>
        </p:nvSpPr>
        <p:spPr>
          <a:xfrm rot="16200000">
            <a:off x="1020960" y="3956040"/>
            <a:ext cx="71280" cy="1465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e84c22"/>
          </a:solidFill>
          <a:ln w="55080">
            <a:solidFill>
              <a:srgbClr val="c35b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91" name="Grupo 2"/>
          <p:cNvGrpSpPr/>
          <p:nvPr/>
        </p:nvGrpSpPr>
        <p:grpSpPr>
          <a:xfrm>
            <a:off x="1143000" y="4888080"/>
            <a:ext cx="6858000" cy="917280"/>
            <a:chOff x="1143000" y="4888080"/>
            <a:chExt cx="6858000" cy="917280"/>
          </a:xfrm>
        </p:grpSpPr>
        <p:sp>
          <p:nvSpPr>
            <p:cNvPr id="292" name="Line 30"/>
            <p:cNvSpPr/>
            <p:nvPr/>
          </p:nvSpPr>
          <p:spPr>
            <a:xfrm flipV="1">
              <a:off x="1187280" y="5764320"/>
              <a:ext cx="6812280" cy="41040"/>
            </a:xfrm>
            <a:prstGeom prst="line">
              <a:avLst/>
            </a:prstGeom>
            <a:ln w="50760">
              <a:solidFill>
                <a:srgbClr val="e84c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93" name="Flecha a la derecha con bandas 11"/>
            <p:cNvSpPr/>
            <p:nvPr/>
          </p:nvSpPr>
          <p:spPr>
            <a:xfrm rot="16200000">
              <a:off x="7551000" y="5355360"/>
              <a:ext cx="853920" cy="45720"/>
            </a:xfrm>
            <a:custGeom>
              <a:avLst/>
              <a:gdLst/>
              <a:ahLst/>
              <a:rect l="l" t="t" r="r" b="b"/>
              <a:pathLst>
                <a:path w="854076" h="46037">
                  <a:moveTo>
                    <a:pt x="0" y="11509"/>
                  </a:moveTo>
                  <a:lnTo>
                    <a:pt x="1439" y="11509"/>
                  </a:lnTo>
                  <a:lnTo>
                    <a:pt x="1439" y="34528"/>
                  </a:lnTo>
                  <a:lnTo>
                    <a:pt x="0" y="34528"/>
                  </a:lnTo>
                  <a:lnTo>
                    <a:pt x="0" y="11509"/>
                  </a:lnTo>
                  <a:close/>
                  <a:moveTo>
                    <a:pt x="2877" y="11509"/>
                  </a:moveTo>
                  <a:lnTo>
                    <a:pt x="5755" y="11509"/>
                  </a:lnTo>
                  <a:lnTo>
                    <a:pt x="5755" y="34528"/>
                  </a:lnTo>
                  <a:lnTo>
                    <a:pt x="2877" y="34528"/>
                  </a:lnTo>
                  <a:lnTo>
                    <a:pt x="2877" y="11509"/>
                  </a:lnTo>
                  <a:close/>
                  <a:moveTo>
                    <a:pt x="7193" y="11509"/>
                  </a:moveTo>
                  <a:lnTo>
                    <a:pt x="831058" y="11509"/>
                  </a:lnTo>
                  <a:lnTo>
                    <a:pt x="831058" y="0"/>
                  </a:lnTo>
                  <a:lnTo>
                    <a:pt x="854076" y="23019"/>
                  </a:lnTo>
                  <a:lnTo>
                    <a:pt x="831058" y="46037"/>
                  </a:lnTo>
                  <a:lnTo>
                    <a:pt x="831058" y="34528"/>
                  </a:lnTo>
                  <a:lnTo>
                    <a:pt x="7193" y="34528"/>
                  </a:lnTo>
                  <a:lnTo>
                    <a:pt x="7193" y="11509"/>
                  </a:lnTo>
                  <a:close/>
                </a:path>
              </a:pathLst>
            </a:custGeom>
            <a:solidFill>
              <a:srgbClr val="e84c22"/>
            </a:solidFill>
            <a:ln w="55080">
              <a:solidFill>
                <a:srgbClr val="c35b4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94" name="Flecha a la derecha con bandas 40"/>
            <p:cNvSpPr/>
            <p:nvPr/>
          </p:nvSpPr>
          <p:spPr>
            <a:xfrm rot="16200000">
              <a:off x="721440" y="5309280"/>
              <a:ext cx="917280" cy="74520"/>
            </a:xfrm>
            <a:custGeom>
              <a:avLst/>
              <a:gdLst/>
              <a:ahLst/>
              <a:rect l="l" t="t" r="r" b="b"/>
              <a:pathLst>
                <a:path w="917576" h="74613">
                  <a:moveTo>
                    <a:pt x="0" y="18653"/>
                  </a:moveTo>
                  <a:lnTo>
                    <a:pt x="2332" y="18653"/>
                  </a:lnTo>
                  <a:lnTo>
                    <a:pt x="2332" y="55960"/>
                  </a:lnTo>
                  <a:lnTo>
                    <a:pt x="0" y="55960"/>
                  </a:lnTo>
                  <a:lnTo>
                    <a:pt x="0" y="18653"/>
                  </a:lnTo>
                  <a:close/>
                  <a:moveTo>
                    <a:pt x="4663" y="18653"/>
                  </a:moveTo>
                  <a:lnTo>
                    <a:pt x="9327" y="18653"/>
                  </a:lnTo>
                  <a:lnTo>
                    <a:pt x="9327" y="55960"/>
                  </a:lnTo>
                  <a:lnTo>
                    <a:pt x="4663" y="55960"/>
                  </a:lnTo>
                  <a:lnTo>
                    <a:pt x="4663" y="18653"/>
                  </a:lnTo>
                  <a:close/>
                  <a:moveTo>
                    <a:pt x="11658" y="18653"/>
                  </a:moveTo>
                  <a:lnTo>
                    <a:pt x="880270" y="18653"/>
                  </a:lnTo>
                  <a:lnTo>
                    <a:pt x="880270" y="0"/>
                  </a:lnTo>
                  <a:lnTo>
                    <a:pt x="917576" y="37307"/>
                  </a:lnTo>
                  <a:lnTo>
                    <a:pt x="880270" y="74613"/>
                  </a:lnTo>
                  <a:lnTo>
                    <a:pt x="880270" y="55960"/>
                  </a:lnTo>
                  <a:lnTo>
                    <a:pt x="11658" y="55960"/>
                  </a:lnTo>
                  <a:lnTo>
                    <a:pt x="11658" y="18653"/>
                  </a:lnTo>
                  <a:close/>
                </a:path>
              </a:pathLst>
            </a:custGeom>
            <a:solidFill>
              <a:srgbClr val="e84c22"/>
            </a:solidFill>
            <a:ln w="55080">
              <a:solidFill>
                <a:srgbClr val="c35b4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295" name="CuadroTexto 25" descr=""/>
          <p:cNvPicPr/>
          <p:nvPr/>
        </p:nvPicPr>
        <p:blipFill>
          <a:blip r:embed="rId2"/>
          <a:stretch/>
        </p:blipFill>
        <p:spPr>
          <a:xfrm>
            <a:off x="152280" y="201600"/>
            <a:ext cx="8766360" cy="1498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Marcador de número de diapositiva 3"/>
          <p:cNvSpPr/>
          <p:nvPr/>
        </p:nvSpPr>
        <p:spPr>
          <a:xfrm>
            <a:off x="8128080" y="6470640"/>
            <a:ext cx="73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6B45-8647-4996-BA0D-456041EB5FAA}" type="slidenum">
              <a:rPr b="1" i="1" lang="es-PE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97" name="CuadroTexto 4" descr=""/>
          <p:cNvPicPr/>
          <p:nvPr/>
        </p:nvPicPr>
        <p:blipFill>
          <a:blip r:embed="rId1"/>
          <a:stretch/>
        </p:blipFill>
        <p:spPr>
          <a:xfrm>
            <a:off x="1170000" y="139680"/>
            <a:ext cx="7345440" cy="1055880"/>
          </a:xfrm>
          <a:prstGeom prst="rect">
            <a:avLst/>
          </a:prstGeom>
          <a:ln w="0">
            <a:noFill/>
          </a:ln>
        </p:spPr>
      </p:pic>
      <p:sp>
        <p:nvSpPr>
          <p:cNvPr id="298" name="CuadroTexto 5"/>
          <p:cNvSpPr/>
          <p:nvPr/>
        </p:nvSpPr>
        <p:spPr>
          <a:xfrm>
            <a:off x="749160" y="907920"/>
            <a:ext cx="5983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dd5f00"/>
                </a:solidFill>
                <a:latin typeface="Arial Black"/>
              </a:rPr>
              <a:t>REGISTRO  ADMINISTRATIVO – SIAF -SP </a:t>
            </a:r>
            <a:endParaRPr b="1" i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99" name="CuadroTexto 6"/>
          <p:cNvGrpSpPr/>
          <p:nvPr/>
        </p:nvGrpSpPr>
        <p:grpSpPr>
          <a:xfrm>
            <a:off x="457200" y="1096920"/>
            <a:ext cx="8424720" cy="6108840"/>
            <a:chOff x="457200" y="1096920"/>
            <a:chExt cx="8424720" cy="6108840"/>
          </a:xfrm>
        </p:grpSpPr>
        <p:pic>
          <p:nvPicPr>
            <p:cNvPr id="300" name="CuadroTexto 6" descr=""/>
            <p:cNvPicPr/>
            <p:nvPr/>
          </p:nvPicPr>
          <p:blipFill>
            <a:blip r:embed="rId2"/>
            <a:stretch/>
          </p:blipFill>
          <p:spPr>
            <a:xfrm>
              <a:off x="457200" y="1096920"/>
              <a:ext cx="8424720" cy="610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735120" y="1341360"/>
              <a:ext cx="7869240" cy="536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000" spc="-1" strike="noStrike">
                  <a:solidFill>
                    <a:srgbClr val="002060"/>
                  </a:solidFill>
                  <a:latin typeface="Calibri"/>
                </a:rPr>
                <a:t>TIPO DE OPERACIÓN</a:t>
              </a:r>
              <a:r>
                <a:rPr b="1" i="1" lang="es-MX" sz="2000" spc="-1" strike="noStrike">
                  <a:solidFill>
                    <a:srgbClr val="000000"/>
                  </a:solidFill>
                  <a:latin typeface="Calibri"/>
                </a:rPr>
                <a:t>:  </a:t>
              </a:r>
              <a:r>
                <a:rPr b="1" i="1" lang="es-MX" sz="2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i="1" lang="es-MX" sz="2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i="1" lang="es-MX" sz="2000" spc="-1" strike="noStrike">
                  <a:solidFill>
                    <a:srgbClr val="000000"/>
                  </a:solidFill>
                  <a:latin typeface="Calibri"/>
                </a:rPr>
                <a:t>“YF”</a:t>
              </a:r>
              <a:endParaRPr b="1" i="1" lang="en-US" sz="20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i="1" lang="es-MX" sz="2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i="1" lang="es-MX" sz="2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i="1" lang="es-MX" sz="2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i="1" lang="es-MX" sz="2000" spc="-1" strike="noStrike">
                  <a:solidFill>
                    <a:srgbClr val="000000"/>
                  </a:solidFill>
                  <a:latin typeface="Calibri"/>
                </a:rPr>
                <a:t> “</a:t>
              </a:r>
              <a:r>
                <a:rPr b="1" i="1" lang="es-MX" sz="2000" spc="-1" strike="noStrike">
                  <a:solidFill>
                    <a:srgbClr val="000000"/>
                  </a:solidFill>
                  <a:latin typeface="Calibri"/>
                </a:rPr>
                <a:t>TF”</a:t>
              </a:r>
              <a:endParaRPr b="1" i="1" lang="en-US" sz="20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000" spc="-1" strike="noStrike">
                  <a:solidFill>
                    <a:srgbClr val="002060"/>
                  </a:solidFill>
                  <a:latin typeface="Calibri"/>
                </a:rPr>
                <a:t>ENTIDAD DE ORIGEN: </a:t>
              </a:r>
              <a:r>
                <a:rPr b="1" i="1" lang="es-MX" sz="2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i="1" lang="es-MX" sz="2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i="1" lang="es-MX" sz="2000" spc="-1" strike="noStrike">
                  <a:solidFill>
                    <a:srgbClr val="000000"/>
                  </a:solidFill>
                  <a:latin typeface="Calibri"/>
                </a:rPr>
                <a:t> Entidad de quien se recibe</a:t>
              </a:r>
              <a:endParaRPr b="1" i="1" lang="en-US" sz="20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5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5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000" spc="-1" strike="noStrike">
                  <a:solidFill>
                    <a:srgbClr val="002060"/>
                  </a:solidFill>
                  <a:latin typeface="Calibri"/>
                </a:rPr>
                <a:t>ENTIDAD DE DESTINO: </a:t>
              </a:r>
              <a:r>
                <a:rPr b="1" i="1" lang="es-MX" sz="2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i="1" lang="es-MX" sz="2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i="1" lang="es-MX" sz="2000" spc="-1" strike="noStrike">
                  <a:solidFill>
                    <a:srgbClr val="000000"/>
                  </a:solidFill>
                  <a:latin typeface="Calibri"/>
                </a:rPr>
                <a:t>Entidad a quien se transfiere </a:t>
              </a:r>
              <a:endParaRPr b="1" i="1" lang="en-US" sz="20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000" spc="-1" strike="noStrike">
                  <a:solidFill>
                    <a:srgbClr val="002060"/>
                  </a:solidFill>
                  <a:latin typeface="Calibri"/>
                </a:rPr>
                <a:t>FUENTE DE FINANCIAMIENTO:</a:t>
              </a:r>
              <a:r>
                <a:rPr b="1" i="1" lang="es-MX" sz="2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i="1" lang="es-MX" sz="2000" spc="-1" strike="noStrike">
                  <a:solidFill>
                    <a:srgbClr val="000000"/>
                  </a:solidFill>
                  <a:latin typeface="Calibri"/>
                </a:rPr>
                <a:t>Pueden darse en todas las fuentes de </a:t>
              </a:r>
              <a:r>
                <a:rPr b="1" i="1" lang="es-MX" sz="2000" spc="-1" strike="noStrike">
                  <a:solidFill>
                    <a:srgbClr val="002060"/>
                  </a:solidFill>
                  <a:latin typeface="Calibri"/>
                </a:rPr>
                <a:t>RUBRO </a:t>
              </a:r>
              <a:r>
                <a:rPr b="1" i="1" lang="es-MX" sz="2000" spc="-1" strike="noStrike">
                  <a:solidFill>
                    <a:srgbClr val="002060"/>
                  </a:solidFill>
                  <a:latin typeface="Calibri"/>
                </a:rPr>
                <a:t>	</a:t>
              </a:r>
              <a:r>
                <a:rPr b="1" i="1" lang="es-MX" sz="2000" spc="-1" strike="noStrike">
                  <a:solidFill>
                    <a:srgbClr val="002060"/>
                  </a:solidFill>
                  <a:latin typeface="Calibri"/>
                </a:rPr>
                <a:t>	</a:t>
              </a:r>
              <a:r>
                <a:rPr b="1" i="1" lang="es-MX" sz="2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i="1" lang="es-MX" sz="2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i="1" lang="es-MX" sz="2000" spc="-1" strike="noStrike">
                  <a:solidFill>
                    <a:srgbClr val="000000"/>
                  </a:solidFill>
                  <a:latin typeface="Calibri"/>
                </a:rPr>
                <a:t>financiamiento (TF)</a:t>
              </a:r>
              <a:endParaRPr b="1" i="1" lang="en-US" sz="20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000" spc="-1" strike="noStrike">
                  <a:solidFill>
                    <a:srgbClr val="000000"/>
                  </a:solidFill>
                  <a:latin typeface="Calibri"/>
                </a:rPr>
                <a:t>                                    </a:t>
              </a:r>
              <a:r>
                <a:rPr b="1" i="1" lang="es-MX" sz="2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i="1" lang="es-MX" sz="2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i="1" lang="es-MX" sz="2000" spc="-1" strike="noStrike">
                  <a:solidFill>
                    <a:srgbClr val="000000"/>
                  </a:solidFill>
                  <a:latin typeface="Calibri"/>
                </a:rPr>
                <a:t>Donaciones y Transferencias (YF)   </a:t>
              </a:r>
              <a:endParaRPr b="1" i="1" lang="en-US" sz="20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000" spc="-1" strike="noStrike">
                  <a:solidFill>
                    <a:srgbClr val="002060"/>
                  </a:solidFill>
                  <a:latin typeface="Calibri"/>
                </a:rPr>
                <a:t>CLASIFICADOR PRESUPUESTARIO:  </a:t>
              </a:r>
              <a:r>
                <a:rPr b="1" i="1" lang="es-MX" sz="2000" spc="-1" strike="noStrike">
                  <a:solidFill>
                    <a:srgbClr val="000000"/>
                  </a:solidFill>
                  <a:latin typeface="Calibri"/>
                </a:rPr>
                <a:t>sincronizar con el grupo de entidad </a:t>
              </a:r>
              <a:endParaRPr b="1" i="1" lang="en-US" sz="20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000" spc="-1" strike="noStrike">
                  <a:solidFill>
                    <a:srgbClr val="002060"/>
                  </a:solidFill>
                  <a:latin typeface="Calibri"/>
                </a:rPr>
                <a:t>IMPORTE: </a:t>
              </a:r>
              <a:r>
                <a:rPr b="1" i="1" lang="es-MX" sz="2000" spc="-1" strike="noStrike">
                  <a:solidFill>
                    <a:srgbClr val="002060"/>
                  </a:solidFill>
                  <a:latin typeface="Calibri"/>
                </a:rPr>
                <a:t>	</a:t>
              </a:r>
              <a:r>
                <a:rPr b="1" i="1" lang="es-MX" sz="2000" spc="-1" strike="noStrike">
                  <a:solidFill>
                    <a:srgbClr val="002060"/>
                  </a:solidFill>
                  <a:latin typeface="Calibri"/>
                </a:rPr>
                <a:t>	</a:t>
              </a:r>
              <a:r>
                <a:rPr b="1" i="1" lang="es-MX" sz="2000" spc="-1" strike="noStrike">
                  <a:solidFill>
                    <a:srgbClr val="002060"/>
                  </a:solidFill>
                  <a:latin typeface="Calibri"/>
                </a:rPr>
                <a:t>	</a:t>
              </a:r>
              <a:r>
                <a:rPr b="1" i="1" lang="es-MX" sz="2000" spc="-1" strike="noStrike">
                  <a:solidFill>
                    <a:srgbClr val="000000"/>
                  </a:solidFill>
                  <a:latin typeface="Calibri"/>
                </a:rPr>
                <a:t>consignar el importe correcto</a:t>
              </a:r>
              <a:endParaRPr b="1" i="1" lang="en-US" sz="20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1" i="1" lang="en-US" sz="2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302" name="Imagen 1" descr=""/>
          <p:cNvPicPr/>
          <p:nvPr/>
        </p:nvPicPr>
        <p:blipFill>
          <a:blip r:embed="rId3"/>
          <a:stretch/>
        </p:blipFill>
        <p:spPr>
          <a:xfrm>
            <a:off x="735120" y="5199120"/>
            <a:ext cx="2274840" cy="165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Marcador de número de diapositiva 3"/>
          <p:cNvSpPr/>
          <p:nvPr/>
        </p:nvSpPr>
        <p:spPr>
          <a:xfrm>
            <a:off x="8128080" y="6470640"/>
            <a:ext cx="73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9A39-663B-4480-B5B4-606B3ED006F4}" type="slidenum">
              <a:rPr b="1" i="1" lang="es-PE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04" name="Imagen 4" descr=""/>
          <p:cNvPicPr/>
          <p:nvPr/>
        </p:nvPicPr>
        <p:blipFill>
          <a:blip r:embed="rId1"/>
          <a:stretch/>
        </p:blipFill>
        <p:spPr>
          <a:xfrm>
            <a:off x="-108000" y="-171360"/>
            <a:ext cx="9252000" cy="7029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Marcador de número de diapositiva 3"/>
          <p:cNvSpPr/>
          <p:nvPr/>
        </p:nvSpPr>
        <p:spPr>
          <a:xfrm>
            <a:off x="8128080" y="6470640"/>
            <a:ext cx="73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22D2-7F49-4B39-BBB2-1B6119B76795}" type="slidenum">
              <a:rPr b="1" i="1" lang="es-PE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06" name="Imagen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45440"/>
          </a:xfrm>
          <a:prstGeom prst="rect">
            <a:avLst/>
          </a:prstGeom>
          <a:ln w="0">
            <a:noFill/>
          </a:ln>
        </p:spPr>
      </p:pic>
      <p:sp>
        <p:nvSpPr>
          <p:cNvPr id="307" name="Elipse 1"/>
          <p:cNvSpPr/>
          <p:nvPr/>
        </p:nvSpPr>
        <p:spPr>
          <a:xfrm flipH="1" flipV="1">
            <a:off x="5219640" y="3860640"/>
            <a:ext cx="504720" cy="648000"/>
          </a:xfrm>
          <a:prstGeom prst="ellipse">
            <a:avLst/>
          </a:prstGeom>
          <a:noFill/>
          <a:ln w="55080">
            <a:solidFill>
              <a:srgbClr val="c35b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Marcador de número de diapositiva 3"/>
          <p:cNvSpPr/>
          <p:nvPr/>
        </p:nvSpPr>
        <p:spPr>
          <a:xfrm>
            <a:off x="8128080" y="6470640"/>
            <a:ext cx="73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87B8-6467-4B6F-9B43-EF1CA26FC54C}" type="slidenum">
              <a:rPr b="1" i="1" lang="es-PE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34920" y="981000"/>
          <a:ext cx="5562720" cy="6083280"/>
        </p:xfrm>
        <a:graphic>
          <a:graphicData uri="http://schemas.openxmlformats.org/drawingml/2006/table">
            <a:tbl>
              <a:tblPr/>
              <a:tblGrid>
                <a:gridCol w="420840"/>
                <a:gridCol w="1122120"/>
                <a:gridCol w="4019760"/>
              </a:tblGrid>
              <a:tr h="43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800" spc="-1" strike="noStrike">
                          <a:solidFill>
                            <a:srgbClr val="17375d"/>
                          </a:solidFill>
                          <a:latin typeface="Calibri"/>
                        </a:rPr>
                        <a:t>2.4             DONACIONES  Y TRANSFERENCIAS 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.1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naciones y Transferencias Corrientes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.1.3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Otras Unidades de Gobierno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.1.3.1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Otras Unidades de Gobierno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.1.3.1.1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77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Otras Unidades de Gobierno Nacional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77a"/>
                    </a:solidFill>
                  </a:tcPr>
                </a:tc>
              </a:tr>
              <a:tr h="382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.1.3.1.2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Otras Unidades de Gobierno Regional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82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.1.3.1.3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Otras Unidades de Gobierno Local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33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.1.3.1.4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Otras Entidades Públicas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</a:tr>
              <a:tr h="315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.2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naciones y Transferencias de Capital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6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.2.3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Otras Unidades de Gobierno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.2.3.1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Otras Unidades de Gobierno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.2.3.1.1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77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Otras Unidades de Gobierno Nacional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77a"/>
                    </a:solidFill>
                  </a:tcPr>
                </a:tc>
              </a:tr>
              <a:tr h="382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.2.3.1.2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Otras Unidades de Gobierno Regional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420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.2.3.1.3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Otras Unidades de Gobierno Local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33"/>
                    </a:solidFill>
                  </a:tcPr>
                </a:tc>
              </a:tr>
              <a:tr h="306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.2.3.1.4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Otras Entidades Públicas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</a:tbl>
          </a:graphicData>
        </a:graphic>
      </p:graphicFrame>
      <p:pic>
        <p:nvPicPr>
          <p:cNvPr id="310" name="CuadroTexto 12" descr=""/>
          <p:cNvPicPr/>
          <p:nvPr/>
        </p:nvPicPr>
        <p:blipFill>
          <a:blip r:embed="rId1"/>
          <a:stretch/>
        </p:blipFill>
        <p:spPr>
          <a:xfrm>
            <a:off x="378000" y="73080"/>
            <a:ext cx="8626320" cy="1542960"/>
          </a:xfrm>
          <a:prstGeom prst="rect">
            <a:avLst/>
          </a:prstGeom>
          <a:ln w="0">
            <a:noFill/>
          </a:ln>
        </p:spPr>
      </p:pic>
      <p:grpSp>
        <p:nvGrpSpPr>
          <p:cNvPr id="311" name="Grupo 9"/>
          <p:cNvGrpSpPr/>
          <p:nvPr/>
        </p:nvGrpSpPr>
        <p:grpSpPr>
          <a:xfrm>
            <a:off x="5997600" y="1125360"/>
            <a:ext cx="3075120" cy="5757840"/>
            <a:chOff x="5997600" y="1125360"/>
            <a:chExt cx="3075120" cy="5757840"/>
          </a:xfrm>
        </p:grpSpPr>
        <p:sp>
          <p:nvSpPr>
            <p:cNvPr id="312" name="12 CuadroTexto"/>
            <p:cNvSpPr/>
            <p:nvPr/>
          </p:nvSpPr>
          <p:spPr>
            <a:xfrm>
              <a:off x="5997600" y="1125360"/>
              <a:ext cx="3075120" cy="1465560"/>
            </a:xfrm>
            <a:prstGeom prst="rect">
              <a:avLst/>
            </a:prstGeom>
            <a:solidFill>
              <a:srgbClr val="ff9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PE" sz="1800" spc="-1" strike="noStrike">
                  <a:solidFill>
                    <a:srgbClr val="000000"/>
                  </a:solidFill>
                  <a:latin typeface="Calibri"/>
                </a:rPr>
                <a:t>Ministerios</a:t>
              </a:r>
              <a:endParaRPr b="1" i="1" lang="en-US" sz="18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PE" sz="1800" spc="-1" strike="noStrike">
                  <a:solidFill>
                    <a:srgbClr val="000000"/>
                  </a:solidFill>
                  <a:latin typeface="Calibri"/>
                </a:rPr>
                <a:t>Poderes y Otras </a:t>
              </a:r>
              <a:endParaRPr b="1" i="1" lang="en-US" sz="18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PE" sz="1800" spc="-1" strike="noStrike">
                  <a:solidFill>
                    <a:srgbClr val="000000"/>
                  </a:solidFill>
                  <a:latin typeface="Calibri"/>
                </a:rPr>
                <a:t>Entidades Captadoras</a:t>
              </a:r>
              <a:endParaRPr b="1" i="1" lang="en-US" sz="18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PE" sz="1800" spc="-1" strike="noStrike">
                  <a:solidFill>
                    <a:srgbClr val="000000"/>
                  </a:solidFill>
                  <a:latin typeface="Calibri"/>
                </a:rPr>
                <a:t>Universidades Públicas y ODA</a:t>
              </a:r>
              <a:endParaRPr b="1" i="1" lang="en-US" sz="18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PE" sz="1800" spc="-1" strike="noStrike">
                  <a:solidFill>
                    <a:srgbClr val="000000"/>
                  </a:solidFill>
                  <a:latin typeface="Calibri"/>
                </a:rPr>
                <a:t>Instituciones Públicas y FCR</a:t>
              </a:r>
              <a:endParaRPr b="1" i="1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13" name="13 CuadroTexto"/>
            <p:cNvSpPr/>
            <p:nvPr/>
          </p:nvSpPr>
          <p:spPr>
            <a:xfrm>
              <a:off x="6069600" y="3835800"/>
              <a:ext cx="3003120" cy="119124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PE" sz="1800" spc="-1" strike="noStrike">
                  <a:solidFill>
                    <a:srgbClr val="000000"/>
                  </a:solidFill>
                  <a:latin typeface="Calibri"/>
                </a:rPr>
                <a:t>Municipalidades</a:t>
              </a:r>
              <a:endParaRPr b="1" i="1" lang="en-US" sz="18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PE" sz="1800" spc="-1" strike="noStrike">
                  <a:solidFill>
                    <a:srgbClr val="000000"/>
                  </a:solidFill>
                  <a:latin typeface="Calibri"/>
                </a:rPr>
                <a:t>Mancomunidades</a:t>
              </a:r>
              <a:endParaRPr b="1" i="1" lang="en-US" sz="18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PE" sz="1800" spc="-1" strike="noStrike">
                  <a:solidFill>
                    <a:srgbClr val="000000"/>
                  </a:solidFill>
                  <a:latin typeface="Calibri"/>
                </a:rPr>
                <a:t>Centro Poblados</a:t>
              </a:r>
              <a:endParaRPr b="1" i="1" lang="en-US" sz="18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14" name="15 CuadroTexto"/>
            <p:cNvSpPr/>
            <p:nvPr/>
          </p:nvSpPr>
          <p:spPr>
            <a:xfrm>
              <a:off x="6033600" y="2703240"/>
              <a:ext cx="3039120" cy="1007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2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2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PE" sz="1800" spc="-1" strike="noStrike">
                  <a:solidFill>
                    <a:srgbClr val="000000"/>
                  </a:solidFill>
                  <a:latin typeface="Calibri"/>
                </a:rPr>
                <a:t>Gobiernos Regionales</a:t>
              </a:r>
              <a:endParaRPr b="1" i="1" lang="en-US" sz="18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15" name="14 CuadroTexto"/>
            <p:cNvSpPr/>
            <p:nvPr/>
          </p:nvSpPr>
          <p:spPr>
            <a:xfrm>
              <a:off x="6085440" y="5143320"/>
              <a:ext cx="2987280" cy="17398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PE" sz="1800" spc="-1" strike="noStrike">
                  <a:solidFill>
                    <a:srgbClr val="000000"/>
                  </a:solidFill>
                  <a:latin typeface="Calibri"/>
                </a:rPr>
                <a:t>Empresas Del Estado</a:t>
              </a:r>
              <a:endParaRPr b="1" i="1" lang="en-US" sz="18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PE" sz="1800" spc="-1" strike="noStrike">
                  <a:solidFill>
                    <a:srgbClr val="000000"/>
                  </a:solidFill>
                  <a:latin typeface="Calibri"/>
                </a:rPr>
                <a:t>Otras Entidades</a:t>
              </a:r>
              <a:endParaRPr b="1" i="1" lang="en-US" sz="18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PE" sz="1800" spc="-1" strike="noStrike">
                  <a:solidFill>
                    <a:srgbClr val="000000"/>
                  </a:solidFill>
                  <a:latin typeface="Calibri"/>
                </a:rPr>
                <a:t>Soc. de Beneficencia Pública</a:t>
              </a:r>
              <a:endParaRPr b="1" i="1" lang="en-US" sz="18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PE" sz="1800" spc="-1" strike="noStrike">
                  <a:solidFill>
                    <a:srgbClr val="000000"/>
                  </a:solidFill>
                  <a:latin typeface="Calibri"/>
                </a:rPr>
                <a:t>OPD – Municipales</a:t>
              </a:r>
              <a:endParaRPr b="1" i="1" lang="en-US" sz="18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PE" sz="1800" spc="-1" strike="noStrike">
                  <a:solidFill>
                    <a:srgbClr val="000000"/>
                  </a:solidFill>
                  <a:latin typeface="Calibri"/>
                </a:rPr>
                <a:t>Institutos Viales Provinciales</a:t>
              </a:r>
              <a:endParaRPr b="1" i="1" lang="en-US" sz="18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PE" sz="1800" spc="-1" strike="noStrike">
                  <a:solidFill>
                    <a:srgbClr val="000000"/>
                  </a:solidFill>
                  <a:latin typeface="Calibri"/>
                </a:rPr>
                <a:t>ETES</a:t>
              </a:r>
              <a:endParaRPr b="1" i="1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316" name="Cerrar corchete 13"/>
          <p:cNvSpPr/>
          <p:nvPr/>
        </p:nvSpPr>
        <p:spPr>
          <a:xfrm>
            <a:off x="5651640" y="1052640"/>
            <a:ext cx="220680" cy="5976720"/>
          </a:xfrm>
          <a:custGeom>
            <a:avLst/>
            <a:gdLst>
              <a:gd name="textAreaLeft" fmla="*/ 0 w 220680"/>
              <a:gd name="textAreaRight" fmla="*/ 154800 w 220680"/>
              <a:gd name="textAreaTop" fmla="*/ 9000 h 5976720"/>
              <a:gd name="textAreaBottom" fmla="*/ 5967720 h 59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3"/>
                  <a:pt x="21600" y="66"/>
                </a:cubicBezTo>
                <a:lnTo>
                  <a:pt x="21600" y="21534"/>
                </a:lnTo>
                <a:cubicBezTo>
                  <a:pt x="21600" y="21567"/>
                  <a:pt x="10800" y="21600"/>
                  <a:pt x="0" y="21600"/>
                </a:cubicBezTo>
              </a:path>
            </a:pathLst>
          </a:custGeom>
          <a:noFill/>
          <a:ln w="55080">
            <a:solidFill>
              <a:srgbClr val="ff614a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Marcador de número de diapositiva 3"/>
          <p:cNvSpPr/>
          <p:nvPr/>
        </p:nvSpPr>
        <p:spPr>
          <a:xfrm>
            <a:off x="8128080" y="6470640"/>
            <a:ext cx="73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24D2-DFF7-4B98-B133-507DB6CE5D82}" type="slidenum">
              <a:rPr b="1" i="1" lang="es-PE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58680" y="1052640"/>
          <a:ext cx="5521320" cy="5769000"/>
        </p:xfrm>
        <a:graphic>
          <a:graphicData uri="http://schemas.openxmlformats.org/drawingml/2006/table">
            <a:tbl>
              <a:tblPr/>
              <a:tblGrid>
                <a:gridCol w="331920"/>
                <a:gridCol w="1216080"/>
                <a:gridCol w="3973320"/>
              </a:tblGrid>
              <a:tr h="360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800" spc="-1" strike="noStrike">
                          <a:solidFill>
                            <a:srgbClr val="17375d"/>
                          </a:solidFill>
                          <a:latin typeface="Calibri"/>
                        </a:rPr>
                        <a:t>1.4               DONACIONES Y TRANSFERENCIAS 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.1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naciones y Transferencias Corrientes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.1.3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 Otras Unidades de Gobierno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.1.3.1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 Otras Unidades de Gobierno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.1.3.1.1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77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 Otras Unidades de Gobierno Nacional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77a"/>
                    </a:solidFill>
                  </a:tcPr>
                </a:tc>
              </a:tr>
              <a:tr h="360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.1.3.1.2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 Otras Unidades de Gobierno Regional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60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.1.3.1.3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 Otras Unidades de Gobierno Local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  <a:tr h="360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.1.3.1.4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 Otras Entidades Públicas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.2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naciones y Transferencias de Capital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7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.2.3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 Otras Unidades de Gobierno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7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.2.3.1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 Otras Unidades de Gobierno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3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.2.3.1.1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77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 Otras Unidades de Gobierno Nacional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77a"/>
                    </a:solidFill>
                  </a:tcPr>
                </a:tc>
              </a:tr>
              <a:tr h="358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.2.3.1.2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 Otras Unidades de Gobierno Regional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60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.2.3.1.3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 Otras Unidades de Gobierno Local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  <a:tr h="358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.2.3.1.4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 Otras Entidades Públicas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</a:tbl>
          </a:graphicData>
        </a:graphic>
      </p:graphicFrame>
      <p:grpSp>
        <p:nvGrpSpPr>
          <p:cNvPr id="319" name="Grupo 9"/>
          <p:cNvGrpSpPr/>
          <p:nvPr/>
        </p:nvGrpSpPr>
        <p:grpSpPr>
          <a:xfrm>
            <a:off x="5997600" y="1052640"/>
            <a:ext cx="3075120" cy="5757480"/>
            <a:chOff x="5997600" y="1052640"/>
            <a:chExt cx="3075120" cy="5757480"/>
          </a:xfrm>
        </p:grpSpPr>
        <p:sp>
          <p:nvSpPr>
            <p:cNvPr id="320" name="12 CuadroTexto"/>
            <p:cNvSpPr/>
            <p:nvPr/>
          </p:nvSpPr>
          <p:spPr>
            <a:xfrm>
              <a:off x="5997600" y="1052640"/>
              <a:ext cx="3075120" cy="1465560"/>
            </a:xfrm>
            <a:prstGeom prst="rect">
              <a:avLst/>
            </a:prstGeom>
            <a:solidFill>
              <a:srgbClr val="ff9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PE" sz="1800" spc="-1" strike="noStrike">
                  <a:solidFill>
                    <a:srgbClr val="ffffff"/>
                  </a:solidFill>
                  <a:latin typeface="Calibri"/>
                </a:rPr>
                <a:t>Ministerios</a:t>
              </a:r>
              <a:endParaRPr b="1" i="1" lang="en-US" sz="18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PE" sz="1800" spc="-1" strike="noStrike">
                  <a:solidFill>
                    <a:srgbClr val="ffffff"/>
                  </a:solidFill>
                  <a:latin typeface="Calibri"/>
                </a:rPr>
                <a:t>Poderes y Otras </a:t>
              </a:r>
              <a:endParaRPr b="1" i="1" lang="en-US" sz="18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PE" sz="1800" spc="-1" strike="noStrike">
                  <a:solidFill>
                    <a:srgbClr val="ffffff"/>
                  </a:solidFill>
                  <a:latin typeface="Calibri"/>
                </a:rPr>
                <a:t>Entidades Captadoras</a:t>
              </a:r>
              <a:endParaRPr b="1" i="1" lang="en-US" sz="18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PE" sz="1800" spc="-1" strike="noStrike">
                  <a:solidFill>
                    <a:srgbClr val="ffffff"/>
                  </a:solidFill>
                  <a:latin typeface="Calibri"/>
                </a:rPr>
                <a:t>Universidades Públicas y ODA</a:t>
              </a:r>
              <a:endParaRPr b="1" i="1" lang="en-US" sz="18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PE" sz="1800" spc="-1" strike="noStrike">
                  <a:solidFill>
                    <a:srgbClr val="ffffff"/>
                  </a:solidFill>
                  <a:latin typeface="Calibri"/>
                </a:rPr>
                <a:t>Instituciones Públicas y FCR</a:t>
              </a:r>
              <a:endParaRPr b="1" i="1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21" name="13 CuadroTexto"/>
            <p:cNvSpPr/>
            <p:nvPr/>
          </p:nvSpPr>
          <p:spPr>
            <a:xfrm>
              <a:off x="6069600" y="3763080"/>
              <a:ext cx="3003120" cy="119124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PE" sz="1800" spc="-1" strike="noStrike">
                  <a:solidFill>
                    <a:srgbClr val="ffffff"/>
                  </a:solidFill>
                  <a:latin typeface="Calibri"/>
                </a:rPr>
                <a:t>Municipalidades</a:t>
              </a:r>
              <a:endParaRPr b="1" i="1" lang="en-US" sz="18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PE" sz="1800" spc="-1" strike="noStrike">
                  <a:solidFill>
                    <a:srgbClr val="ffffff"/>
                  </a:solidFill>
                  <a:latin typeface="Calibri"/>
                </a:rPr>
                <a:t>Mancomunidades</a:t>
              </a:r>
              <a:endParaRPr b="1" i="1" lang="en-US" sz="18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PE" sz="1800" spc="-1" strike="noStrike">
                  <a:solidFill>
                    <a:srgbClr val="ffffff"/>
                  </a:solidFill>
                  <a:latin typeface="Calibri"/>
                </a:rPr>
                <a:t>Centro Poblados</a:t>
              </a:r>
              <a:endParaRPr b="1" i="1" lang="en-US" sz="18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22" name="15 CuadroTexto"/>
            <p:cNvSpPr/>
            <p:nvPr/>
          </p:nvSpPr>
          <p:spPr>
            <a:xfrm>
              <a:off x="6033600" y="2630160"/>
              <a:ext cx="3039120" cy="1007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2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2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PE" sz="1800" spc="-1" strike="noStrike">
                  <a:solidFill>
                    <a:srgbClr val="000000"/>
                  </a:solidFill>
                  <a:latin typeface="Calibri"/>
                </a:rPr>
                <a:t>Gobiernos Regionales</a:t>
              </a:r>
              <a:endParaRPr b="1" i="1" lang="en-US" sz="18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23" name="14 CuadroTexto"/>
            <p:cNvSpPr/>
            <p:nvPr/>
          </p:nvSpPr>
          <p:spPr>
            <a:xfrm>
              <a:off x="6085440" y="5070240"/>
              <a:ext cx="2987280" cy="17398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PE" sz="1800" spc="-1" strike="noStrike">
                  <a:solidFill>
                    <a:srgbClr val="ffffff"/>
                  </a:solidFill>
                  <a:latin typeface="Calibri"/>
                </a:rPr>
                <a:t>Empresas Del Estado</a:t>
              </a:r>
              <a:endParaRPr b="1" i="1" lang="en-US" sz="18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PE" sz="1800" spc="-1" strike="noStrike">
                  <a:solidFill>
                    <a:srgbClr val="ffffff"/>
                  </a:solidFill>
                  <a:latin typeface="Calibri"/>
                </a:rPr>
                <a:t>Otras Entidades</a:t>
              </a:r>
              <a:endParaRPr b="1" i="1" lang="en-US" sz="18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PE" sz="1800" spc="-1" strike="noStrike">
                  <a:solidFill>
                    <a:srgbClr val="ffffff"/>
                  </a:solidFill>
                  <a:latin typeface="Calibri"/>
                </a:rPr>
                <a:t>Soc. de Beneficencia Pública</a:t>
              </a:r>
              <a:endParaRPr b="1" i="1" lang="en-US" sz="18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PE" sz="1800" spc="-1" strike="noStrike">
                  <a:solidFill>
                    <a:srgbClr val="ffffff"/>
                  </a:solidFill>
                  <a:latin typeface="Calibri"/>
                </a:rPr>
                <a:t>OPD – Municipales</a:t>
              </a:r>
              <a:endParaRPr b="1" i="1" lang="en-US" sz="18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PE" sz="1800" spc="-1" strike="noStrike">
                  <a:solidFill>
                    <a:srgbClr val="ffffff"/>
                  </a:solidFill>
                  <a:latin typeface="Calibri"/>
                </a:rPr>
                <a:t>Institutos Viales Provinciales</a:t>
              </a:r>
              <a:endParaRPr b="1" i="1" lang="en-US" sz="18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PE" sz="1800" spc="-1" strike="noStrike">
                  <a:solidFill>
                    <a:srgbClr val="ffffff"/>
                  </a:solidFill>
                  <a:latin typeface="Calibri"/>
                </a:rPr>
                <a:t>ETES</a:t>
              </a:r>
              <a:endParaRPr b="1" i="1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324" name="CuadroTexto 14" descr=""/>
          <p:cNvPicPr/>
          <p:nvPr/>
        </p:nvPicPr>
        <p:blipFill>
          <a:blip r:embed="rId1"/>
          <a:stretch/>
        </p:blipFill>
        <p:spPr>
          <a:xfrm>
            <a:off x="378000" y="73080"/>
            <a:ext cx="8626320" cy="834840"/>
          </a:xfrm>
          <a:prstGeom prst="rect">
            <a:avLst/>
          </a:prstGeom>
          <a:ln w="0">
            <a:noFill/>
          </a:ln>
        </p:spPr>
      </p:pic>
      <p:sp>
        <p:nvSpPr>
          <p:cNvPr id="325" name="Cerrar corchete 1"/>
          <p:cNvSpPr/>
          <p:nvPr/>
        </p:nvSpPr>
        <p:spPr>
          <a:xfrm>
            <a:off x="5651640" y="1052640"/>
            <a:ext cx="118800" cy="5805360"/>
          </a:xfrm>
          <a:custGeom>
            <a:avLst/>
            <a:gdLst>
              <a:gd name="textAreaLeft" fmla="*/ 0 w 118800"/>
              <a:gd name="textAreaRight" fmla="*/ 83520 w 118800"/>
              <a:gd name="textAreaTop" fmla="*/ 4680 h 5805360"/>
              <a:gd name="textAreaBottom" fmla="*/ 5800680 h 580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9"/>
                  <a:pt x="21600" y="37"/>
                </a:cubicBezTo>
                <a:lnTo>
                  <a:pt x="21600" y="21563"/>
                </a:lnTo>
                <a:cubicBezTo>
                  <a:pt x="21600" y="21582"/>
                  <a:pt x="10800" y="21600"/>
                  <a:pt x="0" y="21600"/>
                </a:cubicBezTo>
              </a:path>
            </a:pathLst>
          </a:custGeom>
          <a:noFill/>
          <a:ln w="55080">
            <a:solidFill>
              <a:srgbClr val="ff614a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Marcador de número de diapositiva 3"/>
          <p:cNvSpPr/>
          <p:nvPr/>
        </p:nvSpPr>
        <p:spPr>
          <a:xfrm>
            <a:off x="8128080" y="6470640"/>
            <a:ext cx="73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375A-33AA-4121-94E3-FDA85E869EAA}" type="slidenum">
              <a:rPr b="1" i="1" lang="es-PE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27" name="CuadroTexto 8" descr=""/>
          <p:cNvPicPr/>
          <p:nvPr/>
        </p:nvPicPr>
        <p:blipFill>
          <a:blip r:embed="rId1"/>
          <a:stretch/>
        </p:blipFill>
        <p:spPr>
          <a:xfrm>
            <a:off x="328680" y="128520"/>
            <a:ext cx="8692920" cy="1176480"/>
          </a:xfrm>
          <a:prstGeom prst="rect">
            <a:avLst/>
          </a:prstGeom>
          <a:ln w="0">
            <a:noFill/>
          </a:ln>
        </p:spPr>
      </p:pic>
      <p:sp>
        <p:nvSpPr>
          <p:cNvPr id="328" name="CuadroTexto 10"/>
          <p:cNvSpPr/>
          <p:nvPr/>
        </p:nvSpPr>
        <p:spPr>
          <a:xfrm>
            <a:off x="1547640" y="2421000"/>
            <a:ext cx="576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9" name="Llaves 14"/>
          <p:cNvSpPr/>
          <p:nvPr/>
        </p:nvSpPr>
        <p:spPr>
          <a:xfrm>
            <a:off x="2124000" y="4375080"/>
            <a:ext cx="2879640" cy="46080"/>
          </a:xfrm>
          <a:prstGeom prst="bracePair">
            <a:avLst>
              <a:gd name="adj" fmla="val 8333"/>
            </a:avLst>
          </a:prstGeom>
          <a:noFill/>
          <a:ln w="12600">
            <a:solidFill>
              <a:srgbClr val="f45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30" name="Grupo 18"/>
          <p:cNvGrpSpPr/>
          <p:nvPr/>
        </p:nvGrpSpPr>
        <p:grpSpPr>
          <a:xfrm>
            <a:off x="826920" y="914400"/>
            <a:ext cx="7310520" cy="3317400"/>
            <a:chOff x="826920" y="914400"/>
            <a:chExt cx="7310520" cy="3317400"/>
          </a:xfrm>
        </p:grpSpPr>
        <p:sp>
          <p:nvSpPr>
            <p:cNvPr id="331" name="Rectángulo 11"/>
            <p:cNvSpPr/>
            <p:nvPr/>
          </p:nvSpPr>
          <p:spPr>
            <a:xfrm>
              <a:off x="826920" y="914400"/>
              <a:ext cx="7291800" cy="1099440"/>
            </a:xfrm>
            <a:prstGeom prst="rect">
              <a:avLst/>
            </a:prstGeom>
            <a:solidFill>
              <a:srgbClr val="fff2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000000"/>
                  </a:solidFill>
                  <a:latin typeface="Calibri"/>
                </a:rPr>
                <a:t>Se efectúa en el Módulo de Transferencias Financieras vía WEB –a través del LINK:</a:t>
              </a:r>
              <a:endParaRPr b="1" i="1" lang="en-US" sz="2200" spc="-1" strike="noStrike">
                <a:solidFill>
                  <a:srgbClr val="000000"/>
                </a:solidFill>
                <a:latin typeface="Arial Black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 u="sng">
                  <a:solidFill>
                    <a:srgbClr val="cc9900"/>
                  </a:solidFill>
                  <a:uFillTx/>
                  <a:latin typeface="Calibri"/>
                  <a:hlinkClick r:id="rId2"/>
                </a:rPr>
                <a:t>     </a:t>
              </a:r>
              <a:r>
                <a:rPr b="1" i="1" lang="es-PE" sz="2000" spc="-1" strike="noStrike" u="sng">
                  <a:solidFill>
                    <a:srgbClr val="cc9900"/>
                  </a:solidFill>
                  <a:uFillTx/>
                  <a:latin typeface="Calibri"/>
                  <a:hlinkClick r:id="rId3"/>
                </a:rPr>
                <a:t>http://apps3.mineco.gob.pe/appCont/index.jsp</a:t>
              </a:r>
              <a:endParaRPr b="1" i="1" lang="en-US" sz="2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32" name="Rectángulo 12"/>
            <p:cNvSpPr/>
            <p:nvPr/>
          </p:nvSpPr>
          <p:spPr>
            <a:xfrm>
              <a:off x="847440" y="2136600"/>
              <a:ext cx="7290000" cy="764280"/>
            </a:xfrm>
            <a:prstGeom prst="rect">
              <a:avLst/>
            </a:prstGeom>
            <a:solidFill>
              <a:srgbClr val="ffe6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000000"/>
                  </a:solidFill>
                  <a:latin typeface="Calibri"/>
                </a:rPr>
                <a:t>El sistema realiza una carga masiva de la información procesada en el registro administrativo (ejecución).</a:t>
              </a:r>
              <a:endParaRPr b="1" i="1" lang="en-US" sz="22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33" name="Rectángulo 13"/>
            <p:cNvSpPr/>
            <p:nvPr/>
          </p:nvSpPr>
          <p:spPr>
            <a:xfrm>
              <a:off x="836640" y="3025440"/>
              <a:ext cx="7291800" cy="764280"/>
            </a:xfrm>
            <a:prstGeom prst="rect">
              <a:avLst/>
            </a:prstGeom>
            <a:solidFill>
              <a:srgbClr val="f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000000"/>
                  </a:solidFill>
                  <a:latin typeface="Calibri"/>
                </a:rPr>
                <a:t>La entidad evalúa y completa la información con el marco presupuestal .</a:t>
              </a:r>
              <a:endParaRPr b="1" i="1" lang="en-US" sz="22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34" name="Abrir llave 16"/>
            <p:cNvSpPr/>
            <p:nvPr/>
          </p:nvSpPr>
          <p:spPr>
            <a:xfrm rot="16200000">
              <a:off x="4278240" y="1202760"/>
              <a:ext cx="298440" cy="5759640"/>
            </a:xfrm>
            <a:custGeom>
              <a:avLst/>
              <a:gdLst>
                <a:gd name="textAreaLeft" fmla="*/ 190800 w 298440"/>
                <a:gd name="textAreaRight" fmla="*/ 298800 w 298440"/>
                <a:gd name="textAreaTop" fmla="*/ 7560 h 5759640"/>
                <a:gd name="textAreaBottom" fmla="*/ 5752080 h 575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7"/>
                    <a:pt x="10800" y="93"/>
                  </a:cubicBezTo>
                  <a:lnTo>
                    <a:pt x="10800" y="10707"/>
                  </a:lnTo>
                  <a:cubicBezTo>
                    <a:pt x="10800" y="10754"/>
                    <a:pt x="5400" y="10800"/>
                    <a:pt x="0" y="10800"/>
                  </a:cubicBezTo>
                  <a:cubicBezTo>
                    <a:pt x="5400" y="10800"/>
                    <a:pt x="10800" y="10847"/>
                    <a:pt x="10800" y="10893"/>
                  </a:cubicBezTo>
                  <a:lnTo>
                    <a:pt x="10800" y="21507"/>
                  </a:lnTo>
                  <a:cubicBezTo>
                    <a:pt x="10800" y="21554"/>
                    <a:pt x="16200" y="21600"/>
                    <a:pt x="21600" y="21600"/>
                  </a:cubicBezTo>
                </a:path>
              </a:pathLst>
            </a:custGeom>
            <a:solidFill>
              <a:srgbClr val="b53513"/>
            </a:solidFill>
            <a:ln w="12600">
              <a:solidFill>
                <a:srgbClr val="f453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335" name="Grupo 19"/>
          <p:cNvGrpSpPr/>
          <p:nvPr/>
        </p:nvGrpSpPr>
        <p:grpSpPr>
          <a:xfrm>
            <a:off x="914400" y="4149720"/>
            <a:ext cx="7473960" cy="2779560"/>
            <a:chOff x="914400" y="4149720"/>
            <a:chExt cx="7473960" cy="2779560"/>
          </a:xfrm>
        </p:grpSpPr>
        <p:grpSp>
          <p:nvGrpSpPr>
            <p:cNvPr id="336" name="Grupo 4"/>
            <p:cNvGrpSpPr/>
            <p:nvPr/>
          </p:nvGrpSpPr>
          <p:grpSpPr>
            <a:xfrm>
              <a:off x="914400" y="4509360"/>
              <a:ext cx="7473960" cy="2419920"/>
              <a:chOff x="914400" y="4509360"/>
              <a:chExt cx="7473960" cy="2419920"/>
            </a:xfrm>
          </p:grpSpPr>
          <p:sp>
            <p:nvSpPr>
              <p:cNvPr id="337" name="Rectángulo 6"/>
              <p:cNvSpPr/>
              <p:nvPr/>
            </p:nvSpPr>
            <p:spPr>
              <a:xfrm>
                <a:off x="914400" y="4509360"/>
                <a:ext cx="747396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MX" sz="2400" spc="-1" strike="noStrike">
                    <a:solidFill>
                      <a:srgbClr val="000000"/>
                    </a:solidFill>
                    <a:latin typeface="Calibri"/>
                  </a:rPr>
                  <a:t>Transferencias Financieras Recibidas –TFR</a:t>
                </a:r>
                <a:endParaRPr b="1" i="1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MX" sz="2400" spc="-1" strike="noStrike">
                    <a:solidFill>
                      <a:srgbClr val="000000"/>
                    </a:solidFill>
                    <a:latin typeface="Calibri"/>
                  </a:rPr>
                  <a:t>Transferencias Financieras Otorgadas–TFO-1</a:t>
                </a:r>
                <a:endParaRPr b="1" i="1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MX" sz="2400" spc="-1" strike="noStrike">
                    <a:solidFill>
                      <a:srgbClr val="000000"/>
                    </a:solidFill>
                    <a:latin typeface="Calibri"/>
                  </a:rPr>
                  <a:t>Clasificación Funcional de las Transferencias  Financieras Otorgadas–TFO-2 </a:t>
                </a:r>
                <a:endParaRPr b="1" i="1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MX" sz="2400" spc="-1" strike="noStrike">
                    <a:solidFill>
                      <a:srgbClr val="000000"/>
                    </a:solidFill>
                    <a:latin typeface="Calibri"/>
                  </a:rPr>
                  <a:t>Distribución Geográfica de las Transferencias  Financieras Otorgadas–TFO-3 </a:t>
                </a:r>
                <a:endParaRPr b="1" i="1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38" name="Rectángulo 7"/>
              <p:cNvSpPr/>
              <p:nvPr/>
            </p:nvSpPr>
            <p:spPr>
              <a:xfrm>
                <a:off x="1205280" y="6467760"/>
                <a:ext cx="6783480" cy="46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339" name="CuadroTexto 17"/>
            <p:cNvSpPr/>
            <p:nvPr/>
          </p:nvSpPr>
          <p:spPr>
            <a:xfrm>
              <a:off x="2771640" y="4149720"/>
              <a:ext cx="374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800" spc="-1" strike="noStrike">
                  <a:solidFill>
                    <a:srgbClr val="ff0000"/>
                  </a:solidFill>
                  <a:latin typeface="Arial Black"/>
                </a:rPr>
                <a:t>SE GENERA LOS FORMATOS</a:t>
              </a:r>
              <a:endParaRPr b="1" i="1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Marcador de número de diapositiva 3"/>
          <p:cNvSpPr/>
          <p:nvPr/>
        </p:nvSpPr>
        <p:spPr>
          <a:xfrm>
            <a:off x="8128080" y="6470640"/>
            <a:ext cx="73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7913-CB9A-40CA-833B-90D1D1DC86CE}" type="slidenum">
              <a:rPr b="1" i="1" lang="es-PE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41" name="Grupo 9"/>
          <p:cNvGrpSpPr/>
          <p:nvPr/>
        </p:nvGrpSpPr>
        <p:grpSpPr>
          <a:xfrm>
            <a:off x="920880" y="203040"/>
            <a:ext cx="7572240" cy="3892680"/>
            <a:chOff x="920880" y="203040"/>
            <a:chExt cx="7572240" cy="3892680"/>
          </a:xfrm>
        </p:grpSpPr>
        <p:sp>
          <p:nvSpPr>
            <p:cNvPr id="342" name="CuadroTexto 10"/>
            <p:cNvSpPr/>
            <p:nvPr/>
          </p:nvSpPr>
          <p:spPr>
            <a:xfrm>
              <a:off x="1147680" y="203040"/>
              <a:ext cx="7345440" cy="85572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500" spc="-1" strike="noStrike">
                  <a:solidFill>
                    <a:srgbClr val="dd5f00"/>
                  </a:solidFill>
                  <a:latin typeface="Calibri"/>
                </a:rPr>
                <a:t>CONCILIACIÓN DE LAS TRANSFERENCIAS FINANCIERAS  </a:t>
              </a:r>
              <a:endParaRPr b="1" i="1" lang="en-US" sz="2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43" name="Rectángulo 11"/>
            <p:cNvSpPr/>
            <p:nvPr/>
          </p:nvSpPr>
          <p:spPr>
            <a:xfrm>
              <a:off x="954000" y="1009440"/>
              <a:ext cx="7410600" cy="776520"/>
            </a:xfrm>
            <a:prstGeom prst="rect">
              <a:avLst/>
            </a:prstGeom>
            <a:solidFill>
              <a:srgbClr val="fff2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000000"/>
                  </a:solidFill>
                  <a:latin typeface="Calibri"/>
                </a:rPr>
                <a:t>Se efectúa en el Módulo SITRAN a través e LINK:</a:t>
              </a:r>
              <a:endParaRPr b="1" i="1" lang="en-US" sz="2200" spc="-1" strike="noStrike">
                <a:solidFill>
                  <a:srgbClr val="000000"/>
                </a:solidFill>
                <a:latin typeface="Arial Black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PE" sz="2000" spc="-1" strike="noStrike" u="sng">
                  <a:solidFill>
                    <a:srgbClr val="cc9900"/>
                  </a:solidFill>
                  <a:uFillTx/>
                  <a:latin typeface="Arial Black"/>
                  <a:hlinkClick r:id="rId1"/>
                </a:rPr>
                <a:t>	</a:t>
              </a:r>
              <a:r>
                <a:rPr b="1" i="1" lang="es-PE" sz="1800" spc="-1" strike="noStrike" u="sng">
                  <a:solidFill>
                    <a:srgbClr val="cc9900"/>
                  </a:solidFill>
                  <a:uFillTx/>
                  <a:latin typeface="Arial Black"/>
                  <a:hlinkClick r:id="rId2"/>
                </a:rPr>
                <a:t>http://apps2.mef.gob.pe/apptransferencias/index.jsp</a:t>
              </a:r>
              <a:r>
                <a:rPr b="1" i="1" lang="es-PE" sz="18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endParaRPr b="1" i="1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44" name="Rectángulo 12"/>
            <p:cNvSpPr/>
            <p:nvPr/>
          </p:nvSpPr>
          <p:spPr>
            <a:xfrm>
              <a:off x="954000" y="1860480"/>
              <a:ext cx="7429680" cy="764280"/>
            </a:xfrm>
            <a:prstGeom prst="rect">
              <a:avLst/>
            </a:prstGeom>
            <a:solidFill>
              <a:srgbClr val="ffe6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000000"/>
                  </a:solidFill>
                  <a:latin typeface="Calibri"/>
                </a:rPr>
                <a:t>La entidad migra los datos de los recursos recibidos o transferidos según el caso.</a:t>
              </a:r>
              <a:endParaRPr b="1" i="1" lang="en-US" sz="22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45" name="Rectángulo 13"/>
            <p:cNvSpPr/>
            <p:nvPr/>
          </p:nvSpPr>
          <p:spPr>
            <a:xfrm>
              <a:off x="920880" y="2826720"/>
              <a:ext cx="7430040" cy="764280"/>
            </a:xfrm>
            <a:prstGeom prst="rect">
              <a:avLst/>
            </a:prstGeom>
            <a:solidFill>
              <a:srgbClr val="f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000000"/>
                  </a:solidFill>
                  <a:latin typeface="Calibri"/>
                </a:rPr>
                <a:t>Concilia con la entidad recíproca y realiza la confirmación de datos de manera virtual.</a:t>
              </a:r>
              <a:endParaRPr b="1" i="1" lang="en-US" sz="22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46" name="Abrir llave 14"/>
            <p:cNvSpPr/>
            <p:nvPr/>
          </p:nvSpPr>
          <p:spPr>
            <a:xfrm rot="16200000">
              <a:off x="4479120" y="983160"/>
              <a:ext cx="379440" cy="5845320"/>
            </a:xfrm>
            <a:custGeom>
              <a:avLst/>
              <a:gdLst>
                <a:gd name="textAreaLeft" fmla="*/ 242640 w 379440"/>
                <a:gd name="textAreaRight" fmla="*/ 379800 w 379440"/>
                <a:gd name="textAreaTop" fmla="*/ 7560 h 5845320"/>
                <a:gd name="textAreaBottom" fmla="*/ 5837760 h 584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7"/>
                    <a:pt x="10800" y="93"/>
                  </a:cubicBezTo>
                  <a:lnTo>
                    <a:pt x="10800" y="10707"/>
                  </a:lnTo>
                  <a:cubicBezTo>
                    <a:pt x="10800" y="10754"/>
                    <a:pt x="5400" y="10800"/>
                    <a:pt x="0" y="10800"/>
                  </a:cubicBezTo>
                  <a:cubicBezTo>
                    <a:pt x="5400" y="10800"/>
                    <a:pt x="10800" y="10847"/>
                    <a:pt x="10800" y="10893"/>
                  </a:cubicBezTo>
                  <a:lnTo>
                    <a:pt x="10800" y="21507"/>
                  </a:lnTo>
                  <a:cubicBezTo>
                    <a:pt x="10800" y="21554"/>
                    <a:pt x="16200" y="21600"/>
                    <a:pt x="21600" y="21600"/>
                  </a:cubicBezTo>
                </a:path>
              </a:pathLst>
            </a:custGeom>
            <a:solidFill>
              <a:srgbClr val="b53513"/>
            </a:solidFill>
            <a:ln w="12600">
              <a:solidFill>
                <a:srgbClr val="f453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347" name="CuadroTexto 15"/>
          <p:cNvSpPr/>
          <p:nvPr/>
        </p:nvSpPr>
        <p:spPr>
          <a:xfrm>
            <a:off x="2797200" y="4032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0000"/>
                </a:solidFill>
                <a:latin typeface="Arial Black"/>
              </a:rPr>
              <a:t>GENERA EL FORMATO</a:t>
            </a:r>
            <a:endParaRPr b="1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8" name="Rectángulo 16"/>
          <p:cNvSpPr/>
          <p:nvPr/>
        </p:nvSpPr>
        <p:spPr>
          <a:xfrm>
            <a:off x="976320" y="4457880"/>
            <a:ext cx="7319880" cy="429120"/>
          </a:xfrm>
          <a:prstGeom prst="rect">
            <a:avLst/>
          </a:prstGeom>
          <a:solidFill>
            <a:srgbClr val="ff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0000"/>
                </a:solidFill>
                <a:latin typeface="Calibri"/>
              </a:rPr>
              <a:t>Acta de Conciliación de las Transferencias Financieras.</a:t>
            </a:r>
            <a:endParaRPr b="1" i="1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49" name="Imagen 1" descr=""/>
          <p:cNvPicPr/>
          <p:nvPr/>
        </p:nvPicPr>
        <p:blipFill>
          <a:blip r:embed="rId3"/>
          <a:stretch/>
        </p:blipFill>
        <p:spPr>
          <a:xfrm>
            <a:off x="974880" y="5089680"/>
            <a:ext cx="1871640" cy="1579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3T20:11:30Z</dcterms:created>
  <dc:creator>Aldo Vallejo</dc:creator>
  <dc:description/>
  <dc:language>en-US</dc:language>
  <cp:lastModifiedBy>Canorio Salcedo, Jacinta Isabel</cp:lastModifiedBy>
  <cp:lastPrinted>2015-07-10T00:29:26Z</cp:lastPrinted>
  <dcterms:modified xsi:type="dcterms:W3CDTF">2015-07-13T22:15:24Z</dcterms:modified>
  <cp:revision>1292</cp:revision>
  <dc:subject/>
  <dc:title>Presentación de PowerPoint</dc:title>
</cp:coreProperties>
</file>